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6.xml" ContentType="application/vnd.openxmlformats-officedocument.presentationml.comments+xml"/>
  <Override PartName="/ppt/comments/comment13.xml" ContentType="application/vnd.openxmlformats-officedocument.presentationml.comments+xml"/>
  <Override PartName="/ppt/comments/comment1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xkb1.com" initials="x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<Relationship Id="rId18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13-02-24T18:03:41.445000000" idx="2">
    <p:pos x="3225" y="1055"/>
    <p:text/>
  </p:cm>
</p:cmLst>
</file>

<file path=ppt/comments/comment13.xml><?xml version="1.0" encoding="utf-8"?>
<p:cmLst xmlns:p="http://schemas.openxmlformats.org/presentationml/2006/main">
  <p:cm authorId="0" dt="2013-02-24T18:03:46.398000000" idx="3">
    <p:pos x="2902" y="1840"/>
    <p:text/>
  </p:cm>
</p:cmLst>
</file>

<file path=ppt/comments/comment6.xml><?xml version="1.0" encoding="utf-8"?>
<p:cmLst xmlns:p="http://schemas.openxmlformats.org/presentationml/2006/main">
  <p:cm authorId="0" dt="2013-02-24T18:03:35.469000000" idx="1">
    <p:pos x="5486" y="131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A361-172D-471C-8FB3-FAAE39B5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8EAC-98FC-4D93-AFFF-143D012D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2931-E836-4E61-9710-A7F032EB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C942-03C2-4B27-B87D-A02707C1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5B73-8D3A-414B-A863-E902A217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30F8-1E07-4EBC-8910-AC62486D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B52A-9576-4F2A-B6DE-B8AA804B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7ACA-FD31-47A2-8BA7-681117E1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29F5-4D70-4B03-8FE0-1C4B8B0C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BC38-DACE-474E-9A31-CAD2A9EA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C3CB-65B8-4386-B9DF-0FB71941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4DB-E8C4-4732-9C01-0AF4DB36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F9DD-39A7-458B-85C6-FE95655D7F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00360" y="549360"/>
            <a:ext cx="597708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it1   In cla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(Cartoon time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80960" y="2276640"/>
            <a:ext cx="519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lis</a:t>
            </a:r>
            <a:r>
              <a:rPr b="0" lang="zh-CN" sz="8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en</a:t>
            </a:r>
            <a:r>
              <a:rPr b="0" lang="zh-CN" sz="88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6600" spc="-1" strike="noStrike">
                <a:solidFill>
                  <a:srgbClr val="000000"/>
                </a:solidFill>
                <a:latin typeface="Comic Sans MS"/>
              </a:rPr>
              <a:t>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5800" y="4156200"/>
            <a:ext cx="6860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listen to the parro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听鹦鹉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44360"/>
            <a:ext cx="71942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Don’t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listen to the parro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不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05264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72880" y="5084640"/>
            <a:ext cx="797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Don’t listen to the parro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16720" y="1628640"/>
            <a:ext cx="409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isten to 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9280" y="3068640"/>
            <a:ext cx="483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isten to Mik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1773360"/>
            <a:ext cx="576360" cy="504720"/>
          </a:xfrm>
          <a:prstGeom prst="star5">
            <a:avLst/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79280" y="3213000"/>
            <a:ext cx="865440" cy="865080"/>
            <a:chOff x="179280" y="3213000"/>
            <a:chExt cx="865440" cy="865080"/>
          </a:xfrm>
        </p:grpSpPr>
        <p:sp>
          <p:nvSpPr>
            <p:cNvPr id="70" name=""/>
            <p:cNvSpPr/>
            <p:nvPr/>
          </p:nvSpPr>
          <p:spPr>
            <a:xfrm>
              <a:off x="468360" y="3573360"/>
              <a:ext cx="576360" cy="504720"/>
            </a:xfrm>
            <a:prstGeom prst="star5">
              <a:avLst/>
            </a:prstGeom>
            <a:solidFill>
              <a:srgbClr val="ff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9280" y="3213000"/>
              <a:ext cx="576360" cy="504720"/>
            </a:xfrm>
            <a:prstGeom prst="star5">
              <a:avLst/>
            </a:prstGeom>
            <a:solidFill>
              <a:srgbClr val="ff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79280" y="4941720"/>
            <a:ext cx="1079280" cy="1009440"/>
            <a:chOff x="179280" y="4941720"/>
            <a:chExt cx="1079280" cy="1009440"/>
          </a:xfrm>
        </p:grpSpPr>
        <p:sp>
          <p:nvSpPr>
            <p:cNvPr id="73" name=""/>
            <p:cNvSpPr/>
            <p:nvPr/>
          </p:nvSpPr>
          <p:spPr>
            <a:xfrm>
              <a:off x="682560" y="4941720"/>
              <a:ext cx="576000" cy="504720"/>
            </a:xfrm>
            <a:prstGeom prst="star5">
              <a:avLst/>
            </a:prstGeom>
            <a:solidFill>
              <a:srgbClr val="ff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9640" y="5446440"/>
              <a:ext cx="576360" cy="504720"/>
            </a:xfrm>
            <a:prstGeom prst="star5">
              <a:avLst/>
            </a:prstGeom>
            <a:solidFill>
              <a:srgbClr val="ff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9280" y="5013000"/>
              <a:ext cx="576360" cy="505080"/>
            </a:xfrm>
            <a:prstGeom prst="star5">
              <a:avLst/>
            </a:prstGeom>
            <a:solidFill>
              <a:srgbClr val="ff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 txBox="1"/>
          <p:nvPr/>
        </p:nvSpPr>
        <p:spPr>
          <a:xfrm>
            <a:off x="826920" y="189000"/>
            <a:ext cx="338328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I can read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73240" y="5084640"/>
            <a:ext cx="776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Don’t listen to the robo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720" y="1628640"/>
            <a:ext cx="409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isten to 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59280" y="3267000"/>
            <a:ext cx="483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isten to Mik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989000"/>
            <a:ext cx="576360" cy="505080"/>
          </a:xfrm>
          <a:prstGeom prst="star5">
            <a:avLst/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79280" y="3357720"/>
            <a:ext cx="865440" cy="865080"/>
            <a:chOff x="179280" y="3357720"/>
            <a:chExt cx="865440" cy="865080"/>
          </a:xfrm>
        </p:grpSpPr>
        <p:sp>
          <p:nvSpPr>
            <p:cNvPr id="82" name=""/>
            <p:cNvSpPr/>
            <p:nvPr/>
          </p:nvSpPr>
          <p:spPr>
            <a:xfrm>
              <a:off x="468360" y="3718080"/>
              <a:ext cx="576360" cy="504720"/>
            </a:xfrm>
            <a:prstGeom prst="star5">
              <a:avLst/>
            </a:prstGeom>
            <a:solidFill>
              <a:srgbClr val="ff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9280" y="3357720"/>
              <a:ext cx="576360" cy="504720"/>
            </a:xfrm>
            <a:prstGeom prst="star5">
              <a:avLst/>
            </a:prstGeom>
            <a:solidFill>
              <a:srgbClr val="ff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79280" y="4941720"/>
            <a:ext cx="1079280" cy="1009440"/>
            <a:chOff x="179280" y="4941720"/>
            <a:chExt cx="1079280" cy="1009440"/>
          </a:xfrm>
        </p:grpSpPr>
        <p:sp>
          <p:nvSpPr>
            <p:cNvPr id="85" name=""/>
            <p:cNvSpPr/>
            <p:nvPr/>
          </p:nvSpPr>
          <p:spPr>
            <a:xfrm>
              <a:off x="682560" y="4941720"/>
              <a:ext cx="576000" cy="504720"/>
            </a:xfrm>
            <a:prstGeom prst="star5">
              <a:avLst/>
            </a:prstGeom>
            <a:solidFill>
              <a:srgbClr val="ff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9640" y="5446440"/>
              <a:ext cx="576360" cy="504720"/>
            </a:xfrm>
            <a:prstGeom prst="star5">
              <a:avLst/>
            </a:prstGeom>
            <a:solidFill>
              <a:srgbClr val="ff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79280" y="5013000"/>
              <a:ext cx="576360" cy="505080"/>
            </a:xfrm>
            <a:prstGeom prst="star5">
              <a:avLst/>
            </a:prstGeom>
            <a:solidFill>
              <a:srgbClr val="ff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 txBox="1"/>
          <p:nvPr/>
        </p:nvSpPr>
        <p:spPr>
          <a:xfrm>
            <a:off x="826920" y="189000"/>
            <a:ext cx="338328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I can read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5538960"/>
            <a:ext cx="719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Don’t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listen to the parro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5200" y="1573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Comic Sans MS"/>
                <a:ea typeface="楷体_GB2312"/>
              </a:rPr>
              <a:t>否定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9520" y="1146240"/>
            <a:ext cx="448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Don’t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stand up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720" y="2009880"/>
            <a:ext cx="452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Don’t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sit down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1800" y="3738600"/>
            <a:ext cx="595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Don’t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open the door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720" y="2874960"/>
            <a:ext cx="437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Don’t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come in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1280" y="4675320"/>
            <a:ext cx="698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Don’t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close the window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1280" y="1341360"/>
            <a:ext cx="6624720" cy="38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熟读并模仿背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artoon  tim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抄写单词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on’t=do no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listen to, rubber, parro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+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43200" y="0"/>
            <a:ext cx="651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Magic ey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56040" y="2133720"/>
            <a:ext cx="390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a doo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140360" y="1700280"/>
            <a:ext cx="460836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2249640"/>
            <a:ext cx="6408720" cy="4608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93680" y="404640"/>
            <a:ext cx="56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a wind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3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5688000" cy="4265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70200" y="1052640"/>
            <a:ext cx="405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a boo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3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7619760" cy="4149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07720" y="620640"/>
            <a:ext cx="759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a blackboar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4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3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7174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1000" y="162000"/>
            <a:ext cx="867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What can you see in the pic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442120" y="333360"/>
            <a:ext cx="3017520" cy="3168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-324000" y="260280"/>
            <a:ext cx="4097520" cy="3073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96600" y="3646440"/>
            <a:ext cx="335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pa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rro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22600" y="3645000"/>
            <a:ext cx="35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ru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bb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-531720"/>
            <a:ext cx="8785440" cy="77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19280" y="284040"/>
            <a:ext cx="4097160" cy="3073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88040" y="4005360"/>
            <a:ext cx="756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Is the parrot right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05:33:29Z</dcterms:created>
  <dc:creator/>
  <dc:description/>
  <cp:keywords/>
  <dc:language>en-US</dc:language>
  <cp:lastModifiedBy>微软用户</cp:lastModifiedBy>
  <dcterms:modified xsi:type="dcterms:W3CDTF">2013-11-28T00:37:31Z</dcterms:modified>
  <cp:revision>16</cp:revision>
  <dc:subject/>
  <dc:title>幻灯片 1</dc:title>
</cp:coreProperties>
</file>